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3097-BD96-409A-A146-D4CD74B7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77B-7A3D-42E8-B1B0-528C5228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0F21-C935-4E2F-9C96-7E405472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3E3A-2F0D-4B9E-BBF2-6A3CBF3B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6B99-1884-4182-8E24-C29115C9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35A3-D3F2-4F4C-B332-51849A36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01D6-B3C0-4C3A-AD77-95FE513A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8EBB-CBC7-4AF9-81CC-67645DC2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9AF8-4E05-4288-9B5D-582EF020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8189-4A30-4598-B813-9D562648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F560-3FB9-4A0C-8BF8-C16716B4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103C-A04A-426B-BAF1-46680CF9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59B6-BCB2-4E44-9DED-3655AB4E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9C17-1068-4FB5-98FA-9062EB79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496E-6690-4BB4-90A6-12788BB4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04F9-C4F9-46AD-A6F6-2A0DEDCA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2A39-CF77-434E-BB01-5EDA9A21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D75-D3A6-4265-AA65-C5BEDAE8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4848-DCF6-4DDD-8AD2-5A02D5D8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FD9A-55A8-4EFD-97EB-0FFC9732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AEE-08B0-41B1-BEB9-55CAAFAA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8C87-EC4A-41D8-90F7-DD59E7E6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762D-9B55-4332-BF5E-1C4CDFE4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B2D-51F8-4DD3-95FF-7F43C0B6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06DE-1A98-4AC7-A3CF-7A7C00BE64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0F3B-8FFD-4FC3-92E3-18BA51A35C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Context Clues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Grade Rea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A plant that grows on tree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the trees had fuzzy green moss all over them” tell t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moss is a plant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Jane threw her </a:t>
            </a:r>
            <a:r>
              <a:rPr b="1" lang="en-US" sz="4800" spc="-1" strike="noStrike" u="sng">
                <a:solidFill>
                  <a:srgbClr val="feec94"/>
                </a:solidFill>
                <a:uFillTx/>
                <a:latin typeface="Times New Roman"/>
              </a:rPr>
              <a:t>lariat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 to rope the baby cow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laria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is 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cowbo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ong rope with a loop on on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 long rope with a loop on one en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to rope the baby cow” tell that 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lariat is a long rope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dogs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nipped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at the cows’ heels with their teeth to move them along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2590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ipped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me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ark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napp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snapped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nipped at the cows’ heels with their teeth” tell t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nipped mean snapp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he mother cows looked over their 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calve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to make sure they were safe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alve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oung co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ai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young cow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mother cows looked over their calves” tell t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calves are young cow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he 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statement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showed us how much money we had in the bank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tatem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redit car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piece of pap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A piece of paper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showed how much money we had in the bank” tell t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 statement is a piece of paper with information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member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e the other word clues in the sentences to figure out what a word mea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lues in a sentence can tell you the meaning of a new word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ap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 a liquid that moves inside a tree and brings food to the leaves and branch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e sentence above, the words “a liquid that moves inside a tree and brings food to the leaves and branches” tell you w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ap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mea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0592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We took a walk in the </a:t>
            </a:r>
            <a:r>
              <a:rPr b="1" lang="en-US" sz="4800" spc="-1" strike="noStrike" u="sng">
                <a:solidFill>
                  <a:srgbClr val="feec94"/>
                </a:solidFill>
                <a:uFillTx/>
                <a:latin typeface="Times New Roman"/>
              </a:rPr>
              <a:t>forest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. There were trees as far as we could see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3124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there were trees as far as we could see” tell us t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 forest is a place with many tre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059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ad showed us an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ancient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redwood tree. He said it was very, very old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2590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very, very old” tell us t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nci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means very, very ol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Now you try one!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oldest tree was thre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thousan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years old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Thousan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ig numbe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mall numb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A big number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words “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three thousand years old”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tell us that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thousand means a big number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In the </a:t>
            </a:r>
            <a:r>
              <a:rPr b="1" lang="en-US" sz="4800" spc="-1" strike="noStrike" u="sng">
                <a:solidFill>
                  <a:srgbClr val="feec94"/>
                </a:solidFill>
                <a:uFillTx/>
                <a:latin typeface="Times New Roman"/>
              </a:rPr>
              <a:t>swamp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, the water came up to our knees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wamp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rocky plac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wet pla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A wet plac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words “the water came up to our knees” tell us that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a swamp is a wet pla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Some of the trees had fuzzy green </a:t>
            </a:r>
            <a:r>
              <a:rPr b="1" lang="en-US" sz="4800" spc="-1" strike="noStrike" u="sng">
                <a:solidFill>
                  <a:srgbClr val="feec94"/>
                </a:solidFill>
                <a:uFillTx/>
                <a:latin typeface="Times New Roman"/>
              </a:rPr>
              <a:t>moss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all over them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Mos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ig animal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plant that grows on tre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3:33:35Z</dcterms:created>
  <dc:creator>cooperb</dc:creator>
  <dc:description/>
  <dc:language>en-US</dc:language>
  <cp:lastModifiedBy>dyera</cp:lastModifiedBy>
  <dcterms:modified xsi:type="dcterms:W3CDTF">2007-11-01T15:46:44Z</dcterms:modified>
  <cp:revision>2</cp:revision>
  <dc:subject/>
  <dc:title>Context Clues</dc:title>
</cp:coreProperties>
</file>